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AAF-9CC2-495E-9107-42170384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1B1-34A0-4F55-A829-31802244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9BE-BCBD-4D5E-AA34-78BACD0F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CF6-8D4F-4DCF-8DCC-AB0EC63A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604-18F0-4731-A263-08931E65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34B-A44E-4A94-9343-05F1C983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4EB-5069-4260-B6E5-0AFE3317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E96-0CAC-4A10-BB0C-762A8DC0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68A-2176-4205-871D-CFB2B93A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230-3483-4C44-99E6-B6BCE97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03B-ECF0-46F1-A91A-61C9F65F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170-43B9-4E44-A266-E39C8B6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B17E-A74C-4DE8-A9DA-135BBA29955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jeto de Proteção Ambiental e Desenvolvimento Sustentável do Sistema Aqüífero Guar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997000"/>
            <a:ext cx="7232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GEF/BIRD/OEA  ANA – Agência Nacional de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Ana Luiza Saboia de Fr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óloga – Superintendência de Conservação de Água e Solo – SAS/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http://www.ana.gov.br/gua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nselho Superior de Direção do Projeto – CSDP – órgão político-técnico máximo do Projeto, encarregado de fixar as pautas para execução e de orientar suas ações no marco do Documento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sto por três membros de cada paí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Representação Brasil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Agência Nacional de Águas – Agência Executor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o Meio Ambiente/S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as Relações Exteriores – D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3720"/>
            <a:ext cx="8075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Colegiada – 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ponsável pela coordenação dos aspectos técnicos do projeto e apóia o CSDP nos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to pelos quatro coordenadore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cretaria Geral do Projeto – S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Responsável pelas atividades diária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Trabalha conjuntamente à SG/OEA e ao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de em Montevidéu - Urug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Nacion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a ní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país conta com 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ma conta com um co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Executor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áter Fed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Nacional de Águas – agência executora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ominialidade das águas subterrâneas d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Estadu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nidade Estadual conta com um Coordenador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ição das Unidades Estaduais: órgão gestor de recursos hídricos, órgão de gestão e planejamento, representante das universidades, representante de comitês de bacias e 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Valor total - US$ 26.76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ação GEF/FMAM - US$ 13.400.000,00 (não há internalização dos recursos nos paí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Outros co-financiadores – AIEA; BGR; Bank Netherlands Partership Program – BNPP - US$ 1.368.000,0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dos países - US$ 11.992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Brasileira - US$ 6.622.100,00 (55% das contrapartidas dos benefici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cumentos do Projeto – http://www.ana.gov.br/gua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Project Appraise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Operação do Projeto – lançamento do projeto 21 a 23 de maio - Montevid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Termo Aditivo de Cooperação entre República Federativa do Brasil e O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dade geológica com capacidade armazenar e conduzir água, em seus espaços vazios (poros, fraturas e cavidades naturais), em quantidades economicamente exploráveis, por meio de poços e na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004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stema 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qüência de rochas ou unidades geológicas mais e menos permeáveis, que formam uma unidade hidrológica identificável, entre a recarga e 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9908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20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18324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 aqüífero se constitui pelo preenchimento de espaços nas rochas (poros e fissuras). As rochas do Guarani constituem-se de um pacote de camadas arenosas depositadas na bacia geológica do Paraná, entre 245 e 144 milhões de atrás. A espessura das camadas varia de 50 a 800 metros, estando situadas em profundidades que podem atingir até 1800 metros. Em decorrência do gradiente geotérmico, as águas do aqüífero podem atingir temperaturas relativamente elevadas, em geral entre 50 e 85º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Tem extensão total aproximada de 1,2 milhões de km², sendo 840 mil km² no Brasil, 225,500 mil km² na Argentina, 71,700 mil km² no Paraguai e 58.500 km² no Urugu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 porção brasileira integra o território de oito Estados: MS (213.200 km²), RS (157.600 km²), SP (155.800 km²), PR (131.300 km²), GO (55.000 km²), MG (51.300 km²), SC (49.200 km²) e MT (26.400 km²). A população atual do domínio de ocorrência do aqüífero é estimada em 15 milhões de habi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7993080" cy="20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1341360"/>
            <a:ext cx="498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objetivo do projeto é apoiar a Argentina, Brasil, Paraguai e Uruguai na elaboração e implementação coordenada de uma proposta de modelo institucional, legal e técnico comum para a preservação e o gerenciamento do Sistema Aqüífero Guarani - SAG para as gerações atuais e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resultado final geral do projeto é possibilitar que os quatro países disponham de um modelo de gestão para o SAG, através de um Programa de Ações Estratégicas - PAE, incluindo aspectos técnicos, científicos, institucionais, financeiros e legais para a sua proteção e uso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Expansão e consolidação da base atual do conhecimento científico e técnico do SA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e instrumentação conjunta de um marco de gestão para o SAG, baseado em um Programa de Ações Estraté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Fomento à participação pública de atores interessados, comunicação social e educaçã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e seguimento do Projeto e disseminação dos seus resul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de medidas para a gestão das águas subterrâneas e para a mitigação de danos, de acordo com as características da região, em áreas críticas estabelecidas pela fase e preparação do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do potencial para utilização da energia geotérmica “limpa” do SAG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ordenação e gestã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5256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F/FMAM – recursos de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Banco Mundial – agência implementadora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OEA – agência executo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59:12Z</dcterms:created>
  <dc:creator>Casa das Gatas</dc:creator>
  <dc:description/>
  <dc:language>en-US</dc:language>
  <cp:lastModifiedBy>EST-A518</cp:lastModifiedBy>
  <dcterms:modified xsi:type="dcterms:W3CDTF">2003-05-05T19:29:10Z</dcterms:modified>
  <cp:revision>20</cp:revision>
  <dc:subject/>
  <dc:title>Projeto de Proteção Ambiental e Desenvolvimento Sustentável do Sistema Aqüífero Guarani</dc:title>
</cp:coreProperties>
</file>